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DF6FA-7447-4934-B9AB-BFE97552A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31D06-F6EB-4742-A934-736CAF5BB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EB708-F65A-4B0F-A06C-37B9004E0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43B5D-DD70-4E13-8EE7-0C1062F30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1403B-ADD6-47FE-949D-3E9384B87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905CC-E5EF-4F62-A3EC-C683A4E11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B57BF-A2A5-491A-AA3D-44FFB03FC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7C8C6-A683-49DA-B6EC-D37977209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84688-8194-429E-B7D1-A6FC24FDC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747E8-3D46-4C61-84E1-5A9F4B530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8AF49-8F3D-4C6D-A703-8EBA6F34E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6DA2B-4F24-41AF-802D-DAB7A5404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742646DD-D5D0-4961-9FEC-8A96A8729297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6000" y="1346040"/>
          <a:ext cx="8445240" cy="7086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4524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3-12-18T18:05:17Z</dcterms:modified>
  <cp:revision>94</cp:revision>
  <dc:subject/>
  <dc:title>No Slide Title</dc:title>
</cp:coreProperties>
</file>